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5A614-192E-49FB-A67C-F567462D4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44227-B820-4898-B161-49A31947F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035EB-718A-4331-A19B-F54C16AEE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9BB3-2889-4DA4-8782-BD996CACD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3D9E-2002-4503-A376-E05024D33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DC79-C722-4512-AD01-8F55E0B95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6B42-FD0F-4AA5-A024-E27EAD794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90E8-E04A-4E37-B288-26BA184C1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C029-37B0-4B8B-AD90-BAE008AD8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FAA9-82D1-4BFD-A713-BAFF83A84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067A-9B11-4D37-B16E-6DEC3232F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EF63-4031-4090-B3E7-0FE1488F5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534D-4F36-4D50-8372-F7BEFD7D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54BC-BDC1-4F6F-AB56-F9D0A615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CE2D-8EF4-4BC4-AA04-58FD1FAD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C674C-B683-438E-950A-5CA756201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ita Kopczyn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Rita Kopczynsk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Rita Kopczynski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Rita Kopczynski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Rita Kopczynsk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419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828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! Yo soy Rita. Yo vivo en New York. Tengo catorce años. Yo tengo dos hermanos y una hermana. Estoy feliz y graciosa. Amo mi familia y mis amigas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510228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5102280"/>
            <a:ext cx="536760" cy="78588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152280" y="556272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go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943600"/>
            <a:ext cx="543240" cy="78120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5181480"/>
            <a:ext cx="439560" cy="62892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447920" y="5486400"/>
            <a:ext cx="18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e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Ri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Nada. Gracias. ¿Tú quieres venir a mi casa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Noviembre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Gabb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Nada. Y tú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Noviem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Ri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está pasando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Noviembre 30,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rgo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Si.¿ Qué  haríamos nosotras mañan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Noviem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Ri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Nosotras debemos comer des pues de escuela y habla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Noviem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Margo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Dónde es Ella cas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Noviem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6"/>
          <p:cNvSpPr/>
          <p:nvPr/>
        </p:nvSpPr>
        <p:spPr>
          <a:xfrm>
            <a:off x="2819520" y="1905120"/>
            <a:ext cx="2895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dias!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3" descr="Photo on 2011-11-29 at 13.54.jpg"/>
          <p:cNvPicPr/>
          <p:nvPr/>
        </p:nvPicPr>
        <p:blipFill>
          <a:blip r:embed="rId5"/>
          <a:stretch/>
        </p:blipFill>
        <p:spPr>
          <a:xfrm>
            <a:off x="914400" y="594360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98" name="TextBox 62"/>
          <p:cNvSpPr/>
          <p:nvPr/>
        </p:nvSpPr>
        <p:spPr>
          <a:xfrm>
            <a:off x="776160" y="556272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bb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ita Kopczyn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Rita Kopczynsk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Rita Kopczynski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Rita Kopczynski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Rita Kopczynsk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6"/>
          <p:cNvSpPr/>
          <p:nvPr/>
        </p:nvSpPr>
        <p:spPr>
          <a:xfrm>
            <a:off x="152280" y="4419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7"/>
          <p:cNvSpPr/>
          <p:nvPr/>
        </p:nvSpPr>
        <p:spPr>
          <a:xfrm>
            <a:off x="152280" y="3581280"/>
            <a:ext cx="1828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! Yo soy Rita. Yo vivo en New York. Tengo catorce años. Yo tengo dos hermanos y una hermana. Estoy feliz y graciosa. Amo mi familia y  mis amigas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510228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5102280"/>
            <a:ext cx="536760" cy="785880"/>
          </a:xfrm>
          <a:prstGeom prst="rect">
            <a:avLst/>
          </a:prstGeom>
          <a:ln w="0">
            <a:noFill/>
          </a:ln>
        </p:spPr>
      </p:pic>
      <p:sp>
        <p:nvSpPr>
          <p:cNvPr id="136" name="TextBox 62"/>
          <p:cNvSpPr/>
          <p:nvPr/>
        </p:nvSpPr>
        <p:spPr>
          <a:xfrm>
            <a:off x="152280" y="556272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go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943600"/>
            <a:ext cx="543240" cy="781200"/>
          </a:xfrm>
          <a:prstGeom prst="rect">
            <a:avLst/>
          </a:prstGeom>
          <a:ln w="0">
            <a:noFill/>
          </a:ln>
        </p:spPr>
      </p:pic>
      <p:sp>
        <p:nvSpPr>
          <p:cNvPr id="138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5181480"/>
            <a:ext cx="439560" cy="628920"/>
          </a:xfrm>
          <a:prstGeom prst="rect">
            <a:avLst/>
          </a:prstGeom>
          <a:ln w="0">
            <a:noFill/>
          </a:ln>
        </p:spPr>
      </p:pic>
      <p:sp>
        <p:nvSpPr>
          <p:cNvPr id="140" name="TextBox 66"/>
          <p:cNvSpPr/>
          <p:nvPr/>
        </p:nvSpPr>
        <p:spPr>
          <a:xfrm flipH="1">
            <a:off x="1447920" y="5486400"/>
            <a:ext cx="18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e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7"/>
          <p:cNvSpPr/>
          <p:nvPr/>
        </p:nvSpPr>
        <p:spPr>
          <a:xfrm>
            <a:off x="2743200" y="3809880"/>
            <a:ext cx="3429000" cy="3812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Nosotras tenemos la torta.                                              Ri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Noviembre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7"/>
          <p:cNvSpPr/>
          <p:nvPr/>
        </p:nvSpPr>
        <p:spPr>
          <a:xfrm>
            <a:off x="2819520" y="3124080"/>
            <a:ext cx="3657600" cy="3812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OK.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Ustedes viven en la cuidad, es mejor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Gabb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Noviem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i casa esta en 21 ST.                                                                              Ri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Noviembre 30,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Ustedes tienen las copas parra la fiesta.                                                              Margo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Noviem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llo estas infirma.                                                                                            Ri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Noviem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Tú eres Americana.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Noviem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Tarde!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3" descr="Photo on 2011-11-29 at 13.54.jpg"/>
          <p:cNvPicPr/>
          <p:nvPr/>
        </p:nvPicPr>
        <p:blipFill>
          <a:blip r:embed="rId5"/>
          <a:stretch/>
        </p:blipFill>
        <p:spPr>
          <a:xfrm>
            <a:off x="914400" y="594360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49" name="TextBox 62"/>
          <p:cNvSpPr/>
          <p:nvPr/>
        </p:nvSpPr>
        <p:spPr>
          <a:xfrm>
            <a:off x="776160" y="556272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bb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7T18:29:22Z</dcterms:modified>
  <cp:revision>115</cp:revision>
  <dc:subject/>
  <dc:title>Profile</dc:title>
</cp:coreProperties>
</file>